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82A6-2D41-442A-94E6-803048B8A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0B9B-20A2-4FC2-863F-56E7A3918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E57E-7304-46A8-9670-18682F49B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1FC5-FCEA-4B4D-BFDF-536833D01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A719-9864-404E-BE24-E98A94618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C550-277F-4FF1-B26D-AD3A69BA7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C93C-4580-4CCD-874C-DE737E16D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219D-6FEC-4289-A519-D947C9DD7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7FF7-24A2-4725-BA90-B888A8E51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03B2-2E7E-437A-970D-2EC7E7BC7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A47D-923E-413C-A0DB-EE1C4129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1A06-040D-472D-9BA3-4CB8FA42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E0991-9E99-4F26-A62A-CCB60DEC12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48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51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55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2800" y="1523880"/>
            <a:ext cx="121284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47920" y="1828800"/>
            <a:ext cx="1461960" cy="58752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5181480" y="914400"/>
            <a:ext cx="3672000" cy="1905120"/>
            <a:chOff x="5181480" y="914400"/>
            <a:chExt cx="3672000" cy="1905120"/>
          </a:xfrm>
        </p:grpSpPr>
        <p:pic>
          <p:nvPicPr>
            <p:cNvPr id="61" name="" descr=""/>
            <p:cNvPicPr/>
            <p:nvPr/>
          </p:nvPicPr>
          <p:blipFill>
            <a:blip r:embed="rId3"/>
            <a:stretch/>
          </p:blipFill>
          <p:spPr>
            <a:xfrm>
              <a:off x="5181480" y="152388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4"/>
            <a:stretch/>
          </p:blipFill>
          <p:spPr>
            <a:xfrm>
              <a:off x="7086600" y="182880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5348160" y="914400"/>
              <a:ext cx="3505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442800" y="3809880"/>
            <a:ext cx="3672000" cy="1905120"/>
            <a:chOff x="442800" y="3809880"/>
            <a:chExt cx="3672000" cy="1905120"/>
          </a:xfrm>
        </p:grpSpPr>
        <p:pic>
          <p:nvPicPr>
            <p:cNvPr id="65" name="" descr=""/>
            <p:cNvPicPr/>
            <p:nvPr/>
          </p:nvPicPr>
          <p:blipFill>
            <a:blip r:embed="rId5"/>
            <a:stretch/>
          </p:blipFill>
          <p:spPr>
            <a:xfrm>
              <a:off x="44280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6"/>
            <a:stretch/>
          </p:blipFill>
          <p:spPr>
            <a:xfrm>
              <a:off x="234792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609480" y="3809880"/>
              <a:ext cx="3505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5181480" y="3809880"/>
            <a:ext cx="3672000" cy="1905120"/>
            <a:chOff x="5181480" y="3809880"/>
            <a:chExt cx="3672000" cy="1905120"/>
          </a:xfrm>
        </p:grpSpPr>
        <p:pic>
          <p:nvPicPr>
            <p:cNvPr id="69" name="" descr=""/>
            <p:cNvPicPr/>
            <p:nvPr/>
          </p:nvPicPr>
          <p:blipFill>
            <a:blip r:embed="rId7"/>
            <a:stretch/>
          </p:blipFill>
          <p:spPr>
            <a:xfrm>
              <a:off x="518148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8"/>
            <a:stretch/>
          </p:blipFill>
          <p:spPr>
            <a:xfrm>
              <a:off x="708660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5348160" y="3809880"/>
              <a:ext cx="3505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79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82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86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152280" y="762120"/>
            <a:ext cx="4352760" cy="2666520"/>
            <a:chOff x="152280" y="762120"/>
            <a:chExt cx="4352760" cy="2666520"/>
          </a:xfrm>
        </p:grpSpPr>
        <p:sp>
          <p:nvSpPr>
            <p:cNvPr id="90" name=""/>
            <p:cNvSpPr/>
            <p:nvPr/>
          </p:nvSpPr>
          <p:spPr>
            <a:xfrm>
              <a:off x="152280" y="762120"/>
              <a:ext cx="4352760" cy="7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appreciate you taking time for this important study and look forward to speaking with you soon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11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suggested contact days and times are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968400" y="2971800"/>
              <a:ext cx="266004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2" name="" descr=""/>
            <p:cNvPicPr/>
            <p:nvPr/>
          </p:nvPicPr>
          <p:blipFill>
            <a:blip r:embed="rId1"/>
            <a:srcRect l="9899" t="0" r="9899" b="0"/>
            <a:stretch/>
          </p:blipFill>
          <p:spPr>
            <a:xfrm>
              <a:off x="3548160" y="2678760"/>
              <a:ext cx="94212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2"/>
            <a:stretch/>
          </p:blipFill>
          <p:spPr>
            <a:xfrm>
              <a:off x="162360" y="2647800"/>
              <a:ext cx="673200" cy="7027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94" name=""/>
          <p:cNvGraphicFramePr/>
          <p:nvPr/>
        </p:nvGraphicFramePr>
        <p:xfrm>
          <a:off x="152280" y="1600200"/>
          <a:ext cx="4267440" cy="914400"/>
        </p:xfrm>
        <a:graphic>
          <a:graphicData uri="http://schemas.openxmlformats.org/drawingml/2006/table">
            <a:tbl>
              <a:tblPr/>
              <a:tblGrid>
                <a:gridCol w="381240"/>
                <a:gridCol w="554040"/>
                <a:gridCol w="554040"/>
                <a:gridCol w="720720"/>
                <a:gridCol w="514080"/>
                <a:gridCol w="514440"/>
                <a:gridCol w="514440"/>
                <a:gridCol w="514440"/>
              </a:tblGrid>
              <a:tr h="36684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u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dn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ur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i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tur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5" name=""/>
          <p:cNvGrpSpPr/>
          <p:nvPr/>
        </p:nvGrpSpPr>
        <p:grpSpPr>
          <a:xfrm>
            <a:off x="4648320" y="762120"/>
            <a:ext cx="4352400" cy="2666520"/>
            <a:chOff x="4648320" y="762120"/>
            <a:chExt cx="4352400" cy="2666520"/>
          </a:xfrm>
        </p:grpSpPr>
        <p:sp>
          <p:nvSpPr>
            <p:cNvPr id="96" name=""/>
            <p:cNvSpPr/>
            <p:nvPr/>
          </p:nvSpPr>
          <p:spPr>
            <a:xfrm>
              <a:off x="4648320" y="762120"/>
              <a:ext cx="4352400" cy="7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appreciate you taking time for this important study and look forward to speaking with you soon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11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suggested contact days and times are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64080" y="2971800"/>
              <a:ext cx="265968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3"/>
            <a:srcRect l="9899" t="0" r="9899" b="0"/>
            <a:stretch/>
          </p:blipFill>
          <p:spPr>
            <a:xfrm>
              <a:off x="8043840" y="2678760"/>
              <a:ext cx="94212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4658400" y="2647800"/>
              <a:ext cx="673200" cy="70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152280" y="3505320"/>
            <a:ext cx="4352760" cy="2666520"/>
            <a:chOff x="152280" y="3505320"/>
            <a:chExt cx="4352760" cy="2666520"/>
          </a:xfrm>
        </p:grpSpPr>
        <p:sp>
          <p:nvSpPr>
            <p:cNvPr id="101" name=""/>
            <p:cNvSpPr/>
            <p:nvPr/>
          </p:nvSpPr>
          <p:spPr>
            <a:xfrm>
              <a:off x="152280" y="3505320"/>
              <a:ext cx="4352760" cy="7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appreciate you taking time for this important study and look forward to speaking with you soon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11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suggested contact days and times are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68400" y="5715000"/>
              <a:ext cx="266004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5"/>
            <a:srcRect l="9899" t="0" r="9899" b="0"/>
            <a:stretch/>
          </p:blipFill>
          <p:spPr>
            <a:xfrm>
              <a:off x="3548160" y="5421960"/>
              <a:ext cx="94212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162360" y="5391000"/>
              <a:ext cx="673200" cy="70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4648320" y="3505320"/>
            <a:ext cx="4352400" cy="2666520"/>
            <a:chOff x="4648320" y="3505320"/>
            <a:chExt cx="4352400" cy="2666520"/>
          </a:xfrm>
        </p:grpSpPr>
        <p:sp>
          <p:nvSpPr>
            <p:cNvPr id="106" name=""/>
            <p:cNvSpPr/>
            <p:nvPr/>
          </p:nvSpPr>
          <p:spPr>
            <a:xfrm>
              <a:off x="4648320" y="3505320"/>
              <a:ext cx="4352400" cy="7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appreciate you taking time for this important study and look forward to speaking with you soon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11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suggested contact days and times are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464080" y="5715000"/>
              <a:ext cx="265968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7"/>
            <a:srcRect l="9899" t="0" r="9899" b="0"/>
            <a:stretch/>
          </p:blipFill>
          <p:spPr>
            <a:xfrm>
              <a:off x="8043840" y="5421960"/>
              <a:ext cx="94212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8"/>
            <a:stretch/>
          </p:blipFill>
          <p:spPr>
            <a:xfrm>
              <a:off x="4658400" y="5391000"/>
              <a:ext cx="673200" cy="7027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10" name=""/>
          <p:cNvGraphicFramePr/>
          <p:nvPr/>
        </p:nvGraphicFramePr>
        <p:xfrm>
          <a:off x="4648320" y="1600200"/>
          <a:ext cx="4267080" cy="914400"/>
        </p:xfrm>
        <a:graphic>
          <a:graphicData uri="http://schemas.openxmlformats.org/drawingml/2006/table">
            <a:tbl>
              <a:tblPr/>
              <a:tblGrid>
                <a:gridCol w="380880"/>
                <a:gridCol w="554040"/>
                <a:gridCol w="554040"/>
                <a:gridCol w="720720"/>
                <a:gridCol w="514080"/>
                <a:gridCol w="514440"/>
                <a:gridCol w="514440"/>
                <a:gridCol w="514440"/>
              </a:tblGrid>
              <a:tr h="36684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u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dn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ur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i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tur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152280" y="4343400"/>
          <a:ext cx="4267440" cy="914400"/>
        </p:xfrm>
        <a:graphic>
          <a:graphicData uri="http://schemas.openxmlformats.org/drawingml/2006/table">
            <a:tbl>
              <a:tblPr/>
              <a:tblGrid>
                <a:gridCol w="381240"/>
                <a:gridCol w="554040"/>
                <a:gridCol w="554040"/>
                <a:gridCol w="720720"/>
                <a:gridCol w="514080"/>
                <a:gridCol w="514440"/>
                <a:gridCol w="514440"/>
                <a:gridCol w="514440"/>
              </a:tblGrid>
              <a:tr h="36684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u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dn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ur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i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tur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4648320" y="4343400"/>
          <a:ext cx="4267080" cy="914400"/>
        </p:xfrm>
        <a:graphic>
          <a:graphicData uri="http://schemas.openxmlformats.org/drawingml/2006/table">
            <a:tbl>
              <a:tblPr/>
              <a:tblGrid>
                <a:gridCol w="380880"/>
                <a:gridCol w="554040"/>
                <a:gridCol w="554040"/>
                <a:gridCol w="720720"/>
                <a:gridCol w="514080"/>
                <a:gridCol w="514440"/>
                <a:gridCol w="514440"/>
                <a:gridCol w="514440"/>
              </a:tblGrid>
              <a:tr h="36684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u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dn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ur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i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tur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0T18:56:49Z</dcterms:created>
  <dc:creator>Test</dc:creator>
  <dc:description/>
  <dc:language>en-US</dc:language>
  <cp:lastModifiedBy>McKamey</cp:lastModifiedBy>
  <dcterms:modified xsi:type="dcterms:W3CDTF">2008-08-21T01:19:33Z</dcterms:modified>
  <cp:revision>16</cp:revision>
  <dc:subject/>
  <dc:title>PowerPoint Presentation</dc:title>
</cp:coreProperties>
</file>